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342-65EF-4661-B33E-8323BAB9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460-50D0-4D0F-9E9A-9D3B15CB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6A4-849F-4F89-804C-7C89997C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320-D1B4-4188-89A5-4F5A3C8C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9A7-C99A-4B7A-8CBD-8AB3B5CB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D5F-A503-4F5F-AFC8-27E3D639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A84-5525-4796-BA3D-AFCA41C9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8DB-0BF2-4C6B-80F6-1EECA11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988-177A-4AC0-A839-C8421818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837-76EA-4A50-93F9-F7A4FCD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D39-FF2D-4EDD-831F-58619201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359-B391-46E5-A3EF-2C10DC30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408C-83C1-4EB9-9151-4915122BB7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881600"/>
            <a:ext cx="24768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762120" y="380880"/>
            <a:ext cx="8202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3 :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hemical Effect of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2120" y="1600200"/>
            <a:ext cx="77724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lysis uses a current to split a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plating uses a current to deposit a metal on to an electr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aday’s law of electrop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e use electrolysis and electropl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Sue Holt</cp:lastModifiedBy>
  <dcterms:modified xsi:type="dcterms:W3CDTF">2017-04-30T15:55:34Z</dcterms:modified>
  <cp:revision>23</cp:revision>
  <dc:subject>Physics for You Support File</dc:subject>
  <dc:title>Physics for You</dc:title>
</cp:coreProperties>
</file>