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CE7-DDFD-4097-AD8B-3BA10BB0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879-BE92-483F-A8C3-DFDE188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0F3-8521-4384-ABBA-A46CA2E4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3BC-0635-4CD2-BCCC-86B81C6F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797-B75C-46DD-A2EA-376B50E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785-603E-43A4-8D20-1C9E8DE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AC8-3219-47C1-99D3-BC1B006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CE3-5AD4-41CC-8497-476869E7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EE7-9A13-44C9-AFF4-54259C60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EA4-12AD-4FE6-BAB2-B728274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898-D57E-43CC-9758-688BE24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81A-7B43-4E9A-8C65-6A7F43A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C738-C1FF-43B1-8C20-446042692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18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33 – Chemical Effect of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3 : Chemical Effect of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68280"/>
            <a:ext cx="7272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electrolysis, the positive electrode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 The negative electrode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ctroplating: if a current of 0.5 A deposits 0.1 g of copper in 20 minutes, how much would be deposited in 40 minutes if the current was increased to 1.5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3 : Chemical Effect of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68280"/>
            <a:ext cx="7272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electrolysis, the positive electrode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 The negative electrode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ctroplating: if a current of 0.5 A deposits 0.1 g of copper in 20 minutes, how much would be deposited in 40 minutes if the current was increased to 1.5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832040" y="1628640"/>
            <a:ext cx="129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759040" y="2060640"/>
            <a:ext cx="1432080" cy="3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426708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ss of metal deposited is proportional to current and time.</a:t>
            </a: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urrent is increased by a factor of 3, </a:t>
            </a: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ime is increased by a factor of 2.</a:t>
            </a: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us mass of metal deposited increases by a factor of 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2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5638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ss deposited =  0.1 g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6        =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0.6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4-30T15:57:52Z</dcterms:modified>
  <cp:revision>51</cp:revision>
  <dc:subject>Physics for You Support File</dc:subject>
  <dc:title>Physics for You</dc:title>
</cp:coreProperties>
</file>